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ct" ContentType="image/x-pict"/>
  <Override PartName="/ppt/media/image10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9.pct" ContentType="image/x-pict"/>
  <Override PartName="/ppt/media/image4.jpeg" ContentType="image/jpeg"/>
  <Override PartName="/ppt/media/image25.png" ContentType="image/png"/>
  <Override PartName="/ppt/media/image3.png" ContentType="image/png"/>
  <Override PartName="/ppt/media/image5.png" ContentType="image/png"/>
  <Override PartName="/ppt/media/Pig.wav" ContentType="audio/x-wav"/>
  <Override PartName="/ppt/media/image2.pct" ContentType="image/x-pict"/>
  <Override PartName="/ppt/media/image28.pct" ContentType="image/x-pict"/>
  <Override PartName="/ppt/media/image19.png" ContentType="image/png"/>
  <Override PartName="/ppt/media/image27.png" ContentType="image/png"/>
  <Override PartName="/ppt/media/image24.pct" ContentType="image/x-pict"/>
  <Override PartName="/ppt/media/image15.png" ContentType="image/png"/>
  <Override PartName="/ppt/media/image26.jpeg" ContentType="image/jpeg"/>
  <Override PartName="/ppt/media/image23.pct" ContentType="image/x-pict"/>
  <Override PartName="/ppt/media/image14.png" ContentType="image/png"/>
  <Override PartName="/ppt/media/image22.pct" ContentType="image/x-pict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8D5-398C-436A-8DDC-1F9DE2B2E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 (Krebs 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ct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11.jpeg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0" name="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5760" y="4363920"/>
            <a:ext cx="39708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57336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772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7532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0088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4848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4760" y="393120"/>
            <a:ext cx="4752720" cy="100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7520" y="6153840"/>
            <a:ext cx="49219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63" name="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29360" y="3586320"/>
            <a:ext cx="784080" cy="1050840"/>
            <a:chOff x="6129360" y="3586320"/>
            <a:chExt cx="784080" cy="1050840"/>
          </a:xfrm>
        </p:grpSpPr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6168960" y="3586320"/>
              <a:ext cx="70632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29360" y="404568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4320" y="344160"/>
            <a:ext cx="368100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he diffusion of ions across a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Chemiosmosi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66840" y="442800"/>
            <a:ext cx="8410320" cy="630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884760" y="10508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3240" y="478476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24920" y="41497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8080" y="43560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97880" y="206388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17920" y="196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35160" y="52722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7120" y="776160"/>
            <a:ext cx="1363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yruvate fr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8160" y="109224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4920" y="1461960"/>
            <a:ext cx="88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4880" y="5899320"/>
            <a:ext cx="878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15080" y="378612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6120" y="479916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1840" y="3994200"/>
            <a:ext cx="57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10960" y="728640"/>
            <a:ext cx="1463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4120" y="852480"/>
            <a:ext cx="1338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5280" y="3065400"/>
            <a:ext cx="2563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1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re harvested and carried to the transport system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712960"/>
            <a:ext cx="1638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2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provide energy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to pump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cross the membrane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4052880"/>
            <a:ext cx="1760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3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joins    with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to form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water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1240" y="45514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4120" y="36561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4120" y="26654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66960" y="324000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87600" y="4133880"/>
            <a:ext cx="6285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396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94240" y="5753160"/>
            <a:ext cx="2782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4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diffuse back i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down their concentratio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gradient, driving the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synthesis of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ATP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4160" y="6105600"/>
            <a:ext cx="138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10000" y="426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0000" y="4059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27520" y="1657440"/>
            <a:ext cx="1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0520" y="4287960"/>
            <a:ext cx="25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73760" y="92880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85240" y="26812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29800" y="42703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2320" y="523872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9640" y="314640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60480" y="39765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51000" y="36561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8360" y="268128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02360" y="5205240"/>
            <a:ext cx="1109520" cy="72720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9128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704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84240" y="592200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193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9" name="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92" name="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8137440" y="998640"/>
            <a:ext cx="585720" cy="7333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842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0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itochondria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~36 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2" name="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1888560" y="5713560"/>
            <a:ext cx="1734840" cy="1073160"/>
          </a:xfrm>
          <a:prstGeom prst="wedgeEllipseCallout">
            <a:avLst>
              <a:gd name="adj1" fmla="val 100407"/>
              <a:gd name="adj2" fmla="val -32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4496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47560" y="1668600"/>
            <a:ext cx="1770120" cy="2471760"/>
            <a:chOff x="6847560" y="1668600"/>
            <a:chExt cx="1770120" cy="2471760"/>
          </a:xfrm>
        </p:grpSpPr>
        <p:sp>
          <p:nvSpPr>
            <p:cNvPr id="144" name=""/>
            <p:cNvSpPr/>
            <p:nvPr/>
          </p:nvSpPr>
          <p:spPr>
            <a:xfrm>
              <a:off x="6847560" y="1668600"/>
              <a:ext cx="1770120" cy="9118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426440" y="2587680"/>
              <a:ext cx="37944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8" name="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080" y="1320120"/>
            <a:ext cx="205740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218600"/>
            <a:ext cx="243864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0" y="2944440"/>
            <a:ext cx="1483560" cy="940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7400" y="2991960"/>
            <a:ext cx="14137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0040" y="24703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5" name="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1440" y="10800"/>
                </a:moveTo>
                <a:arcTo wR="-9360" hR="-936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0" name="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2987640" y="286812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11T06:40:47Z</cp:lastPrinted>
  <dcterms:modified xsi:type="dcterms:W3CDTF">2009-01-13T16:53:44Z</dcterms:modified>
  <cp:revision>54</cp:revision>
  <dc:subject/>
  <dc:title>Cellular Respiration  Stage 4:    Electron Transport Chain</dc:title>
</cp:coreProperties>
</file>